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9842377"/>
        <c:axId val="28233327"/>
      </c:barChart>
      <c:catAx>
        <c:axId val="3984237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8233327"/>
        <c:crosses val="autoZero"/>
        <c:auto val="1"/>
        <c:lblAlgn val="ctr"/>
        <c:lblOffset val="100"/>
        <c:noMultiLvlLbl val="0"/>
      </c:catAx>
      <c:valAx>
        <c:axId val="2823332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984237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FDFFA-A59D-4C64-9602-86B451609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D78A-07F9-4366-8FA4-BF57211F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084AE-7C5E-45D6-8783-A4E367769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114B8-FE3E-4FF1-AFF1-9866E55E2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EFF02-97DE-4A3F-989F-F99C62F0F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C1287-0568-436D-AE5D-65A18FD8E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93BEA-ED8E-4042-84F2-DE33E8BFD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327E6-16C5-479E-8C80-4A529D855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6D974-573B-4CAC-B609-00A29AED0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2E53C-5DB6-40F0-8598-BFEBB0B56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F096A-50EA-4777-BFB6-57DD5CBDF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3AF99-219A-4A2B-95C6-9E2BA9A8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70CB1-9BAE-471E-B4A8-5F35FFDF7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82418-15AA-4744-95E6-5BCA54A41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B5943-1CB4-4794-8557-ACA0AB993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F3907-43B9-44A9-BFBD-13846C16B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487EA-C8FB-4B52-A1FF-9A6C81EFB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111FC-1BE1-4F9D-A82F-51E538BE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200B-B127-47AC-A881-448959EF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AC2D-0B1D-43DE-B43B-27E56A32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0CC3-E2DF-47C3-B35B-BFEF0A25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EB41-51BD-47B5-B09C-431151E68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1125-E8E9-432F-B3DD-CA00A8D6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B535-F050-4395-B946-4D1F41E98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7E630F-17FD-4461-AAAC-26684DD2806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31D85-ED8B-4392-A0A6-19849409D67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